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1BF-F15B-4713-A45C-EDA98D76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FF6-062B-444D-BA33-317A460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0BA-6018-4C59-88D0-0703C5D2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97F-BFD5-405F-8196-F2E37D68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227-3443-47E3-94B0-01E3A26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88B-7EB6-42B1-B37F-1B43235A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5D6-1EB2-425E-997B-1E5B386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FA1-6A37-4C32-B263-7A15096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596-8B6D-4A1E-9FD3-F423F4E6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9C9-2EEB-4F80-BD38-96817FB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98F-89F7-44EE-9165-48177B5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0F5-BEFF-454D-B0F5-FA9AF69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33C8-41CF-40D9-AF36-740C3446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624852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pyright © 2005 – 2006 MES-English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54" t="0" r="532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1055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9528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2578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471" t="0" r="532" b="0"/>
          <a:stretch/>
        </p:blipFill>
        <p:spPr>
          <a:xfrm>
            <a:off x="533520" y="504720"/>
            <a:ext cx="8153280" cy="584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52578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554" t="0" r="532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990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58672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 Mo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976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71" t="0" r="1450" b="0"/>
          <a:stretch/>
        </p:blipFill>
        <p:spPr>
          <a:xfrm>
            <a:off x="533520" y="509760"/>
            <a:ext cx="807696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54" t="0" r="1450" b="0"/>
          <a:stretch/>
        </p:blipFill>
        <p:spPr>
          <a:xfrm>
            <a:off x="457200" y="504720"/>
            <a:ext cx="815328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54" t="0" r="913" b="0"/>
          <a:stretch/>
        </p:blipFill>
        <p:spPr>
          <a:xfrm>
            <a:off x="457200" y="504720"/>
            <a:ext cx="8229600" cy="5846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4800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16:17Z</dcterms:created>
  <dc:creator>User</dc:creator>
  <dc:description/>
  <dc:language>en-US</dc:language>
  <cp:lastModifiedBy>a</cp:lastModifiedBy>
  <dcterms:modified xsi:type="dcterms:W3CDTF">2006-09-12T12:53:57Z</dcterms:modified>
  <cp:revision>4</cp:revision>
  <dc:subject/>
  <dc:title>Slide 1</dc:title>
</cp:coreProperties>
</file>